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BCE-A85E-4923-A8C8-0CCD1D36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FC0-C843-4E98-9372-6582E872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E1B-9173-42AF-9FFB-594E691B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7F1-8851-4DE6-8B92-B7171FA8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DE3-732A-4ECA-AA8D-F612EE80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9A6-5F38-4B5A-9AB1-E869AAAF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7CE-A7D8-4DA6-A5E6-4EDD96E0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86E-2CFF-46DD-8FDF-10C00648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4DB-FC00-49D3-9F80-92533645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A6F7-B9D3-46B4-90A5-362A29E2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0C6-ACF0-41FC-A780-2B2E1437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AE2-9446-40D0-A6B2-526C2D8F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ato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t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t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t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t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t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t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t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Lato Regular"/>
                <a:ea typeface="Lato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Lato Regular"/>
                <a:ea typeface="Lato Regular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Lato Regular"/>
                <a:ea typeface="Lato 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3E37-9A56-449C-8EB9-AAD657ACF4BC}" type="slidenum">
              <a:rPr b="0" lang="en-AU" sz="1200" spc="-1" strike="noStrike">
                <a:solidFill>
                  <a:srgbClr val="898989"/>
                </a:solidFill>
                <a:latin typeface="Lato Regular"/>
                <a:ea typeface="Lato 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27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9280" y="4076280"/>
            <a:ext cx="8785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Lato Regular"/>
              </a:rPr>
              <a:t>The building blocks of drama</a:t>
            </a: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Lato Regular"/>
              </a:rPr>
              <a:t>from children’s pretend play to classic plays</a:t>
            </a:r>
            <a:endParaRPr b="0" lang="en-US" sz="32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0" y="6488280"/>
            <a:ext cx="88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Lato Italic"/>
                <a:ea typeface="Lato Italic"/>
              </a:rPr>
              <a:t>Adapted and revised from DRAMAWISE 1988  Copyright B. Haseman &amp; J. O’Toole 20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ato Regular"/>
              </a:rPr>
              <a:t>THE ELEMENTS OF DRAMATIC FORM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Lato Regular"/>
              </a:rPr>
              <a:t>When performed to an audience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Lato Regular"/>
              </a:rPr>
              <a:t>it becomes</a:t>
            </a:r>
            <a:endParaRPr b="0" lang="en-US" sz="40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800440"/>
            <a:ext cx="8229600" cy="14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THEATRE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792000" y="4149720"/>
            <a:ext cx="3384720" cy="58428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Calibri"/>
              </a:rPr>
              <a:t>ac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92000" y="5013360"/>
            <a:ext cx="3384720" cy="58428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Calibri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4967280" y="4221000"/>
            <a:ext cx="3384720" cy="58428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Calibri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967280" y="5084640"/>
            <a:ext cx="3384720" cy="58608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Calibri"/>
              </a:rPr>
              <a:t>sta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879640" y="5869080"/>
            <a:ext cx="3384720" cy="58428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Calibri"/>
              </a:rPr>
              <a:t>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3"/>
          <p:cNvSpPr/>
          <p:nvPr/>
        </p:nvSpPr>
        <p:spPr>
          <a:xfrm>
            <a:off x="6659640" y="836640"/>
            <a:ext cx="2305080" cy="82404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5171a"/>
                </a:solidFill>
                <a:latin typeface="Lato Regular"/>
                <a:ea typeface="Calibri"/>
              </a:rPr>
              <a:t>THE ELEMENT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5171a"/>
                </a:solidFill>
                <a:latin typeface="Lato Regular"/>
                <a:ea typeface="Calibri"/>
              </a:rPr>
              <a:t>O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5171a"/>
                </a:solidFill>
                <a:latin typeface="Lato Regular"/>
                <a:ea typeface="Calibri"/>
              </a:rPr>
              <a:t>DRAMATIC FOR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3019320" y="333360"/>
            <a:ext cx="3105360" cy="83664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ato Regular"/>
                <a:ea typeface="Calibri"/>
              </a:rPr>
              <a:t>THE DRAMATIC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257640" y="1557360"/>
            <a:ext cx="2628720" cy="50328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ato Regular"/>
                <a:ea typeface="Calibri"/>
              </a:rPr>
              <a:t>organised b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ato Regular"/>
                <a:ea typeface="Calibri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AutoShape 10"/>
          <p:cNvCxnSpPr/>
          <p:nvPr/>
        </p:nvCxnSpPr>
        <p:spPr>
          <a:xfrm>
            <a:off x="4571640" y="1267920"/>
            <a:ext cx="10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AutoShape 9"/>
          <p:cNvCxnSpPr/>
          <p:nvPr/>
        </p:nvCxnSpPr>
        <p:spPr>
          <a:xfrm>
            <a:off x="4571640" y="2060280"/>
            <a:ext cx="10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Text Box 8"/>
          <p:cNvSpPr/>
          <p:nvPr/>
        </p:nvSpPr>
        <p:spPr>
          <a:xfrm>
            <a:off x="2448000" y="2349360"/>
            <a:ext cx="4248000" cy="57492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ato Regular"/>
                <a:ea typeface="Calibri"/>
              </a:rPr>
              <a:t>driven by</a:t>
            </a:r>
            <a:r>
              <a:rPr b="0" lang="en-US" sz="1100" spc="-1" strike="noStrike">
                <a:solidFill>
                  <a:srgbClr val="000000"/>
                </a:solidFill>
                <a:latin typeface="Lato Regular"/>
                <a:ea typeface="Calibri"/>
              </a:rPr>
              <a:t> </a:t>
            </a:r>
            <a:br>
              <a:rPr sz="1100"/>
            </a:br>
            <a:r>
              <a:rPr b="0" lang="en-US" sz="1600" spc="-1" strike="noStrike">
                <a:solidFill>
                  <a:srgbClr val="000000"/>
                </a:solidFill>
                <a:latin typeface="Lato Regular"/>
                <a:ea typeface="Calibri"/>
              </a:rPr>
              <a:t>TENS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42"/>
          <p:cNvSpPr/>
          <p:nvPr/>
        </p:nvSpPr>
        <p:spPr>
          <a:xfrm>
            <a:off x="1871640" y="3213000"/>
            <a:ext cx="2629080" cy="50328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ato Regular"/>
                <a:ea typeface="Calibri"/>
              </a:rPr>
              <a:t>manifested over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ato Regular"/>
                <a:ea typeface="Calibri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AutoShape 41"/>
          <p:cNvCxnSpPr/>
          <p:nvPr/>
        </p:nvCxnSpPr>
        <p:spPr>
          <a:xfrm>
            <a:off x="4571640" y="2923920"/>
            <a:ext cx="10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Text Box 40"/>
          <p:cNvSpPr/>
          <p:nvPr/>
        </p:nvSpPr>
        <p:spPr>
          <a:xfrm>
            <a:off x="4638600" y="3213000"/>
            <a:ext cx="2627280" cy="50328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ato Regular"/>
                <a:ea typeface="Calibri"/>
              </a:rPr>
              <a:t>manifested in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ato Regular"/>
                <a:ea typeface="Calibri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AutoShape 24"/>
          <p:cNvCxnSpPr/>
          <p:nvPr/>
        </p:nvCxnSpPr>
        <p:spPr>
          <a:xfrm>
            <a:off x="4571640" y="3789000"/>
            <a:ext cx="108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Text Box 23"/>
          <p:cNvSpPr/>
          <p:nvPr/>
        </p:nvSpPr>
        <p:spPr>
          <a:xfrm>
            <a:off x="1901880" y="4005360"/>
            <a:ext cx="2606760" cy="50328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ato Regular"/>
                <a:ea typeface="Calibri"/>
              </a:rPr>
              <a:t>expressed 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ato Regular"/>
                <a:ea typeface="Calibri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4643280" y="4005360"/>
            <a:ext cx="2629080" cy="50328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ato Regular"/>
                <a:ea typeface="Lato Regular"/>
              </a:rPr>
              <a:t>Embodied 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ato Regular"/>
                <a:ea typeface="Lato Regular"/>
              </a:rPr>
              <a:t>MOV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2448000" y="4869000"/>
            <a:ext cx="4248000" cy="57600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ato Regular"/>
                <a:ea typeface="Calibri"/>
              </a:rPr>
              <a:t>combining to mak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ato Regular"/>
                <a:ea typeface="Calibri"/>
              </a:rPr>
              <a:t>DRAMATIC MEAN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AutoShape 32"/>
          <p:cNvCxnSpPr/>
          <p:nvPr/>
        </p:nvCxnSpPr>
        <p:spPr>
          <a:xfrm>
            <a:off x="4571640" y="4581360"/>
            <a:ext cx="1080" cy="24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AutoShape 25"/>
          <p:cNvCxnSpPr/>
          <p:nvPr/>
        </p:nvCxnSpPr>
        <p:spPr>
          <a:xfrm>
            <a:off x="4571640" y="5444640"/>
            <a:ext cx="1080" cy="6692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10" name="Text Box 31"/>
          <p:cNvSpPr/>
          <p:nvPr/>
        </p:nvSpPr>
        <p:spPr>
          <a:xfrm>
            <a:off x="2448000" y="6165720"/>
            <a:ext cx="4248000" cy="57168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ato Regular"/>
                <a:ea typeface="Calibri"/>
              </a:rPr>
              <a:t>When performed to an audience it becom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ato Regular"/>
                <a:ea typeface="Calibri"/>
              </a:rPr>
              <a:t>THEA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81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Drama starts with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THE DRAMATIC CONTEXT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611280" y="5040360"/>
            <a:ext cx="3889440" cy="1404360"/>
          </a:xfrm>
          <a:prstGeom prst="rect">
            <a:avLst/>
          </a:prstGeom>
          <a:solidFill>
            <a:srgbClr val="245f74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a</a:t>
            </a:r>
            <a:r>
              <a:rPr b="0" lang="en-AU" sz="3200" spc="-1" strike="noStrike">
                <a:solidFill>
                  <a:srgbClr val="ff0000"/>
                </a:solidFill>
                <a:latin typeface="Lato Regular"/>
                <a:ea typeface="Lato Regular"/>
              </a:rPr>
              <a:t> </a:t>
            </a: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human 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Lato Italic"/>
                <a:ea typeface="Lato Italic"/>
              </a:rPr>
              <a:t>What’s happening?</a:t>
            </a:r>
            <a:br>
              <a:rPr sz="1800"/>
            </a:br>
            <a:r>
              <a:rPr b="0" i="1" lang="en-AU" sz="1800" spc="-1" strike="noStrike">
                <a:solidFill>
                  <a:srgbClr val="000000"/>
                </a:solidFill>
                <a:latin typeface="Lato Italic"/>
                <a:ea typeface="Lato Italic"/>
              </a:rPr>
              <a:t>Where?</a:t>
            </a:r>
            <a:br>
              <a:rPr sz="1800"/>
            </a:br>
            <a:r>
              <a:rPr b="0" i="1" lang="en-AU" sz="1800" spc="-1" strike="noStrike">
                <a:solidFill>
                  <a:srgbClr val="000000"/>
                </a:solidFill>
                <a:latin typeface="Lato Italic"/>
                <a:ea typeface="Lato Italic"/>
              </a:rPr>
              <a:t>Wh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4716360" y="5029200"/>
            <a:ext cx="3888000" cy="1343160"/>
          </a:xfrm>
          <a:prstGeom prst="rect">
            <a:avLst/>
          </a:prstGeom>
          <a:solidFill>
            <a:srgbClr val="245f74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its</a:t>
            </a:r>
            <a:r>
              <a:rPr b="0" lang="en-AU" sz="3200" spc="-1" strike="noStrike">
                <a:solidFill>
                  <a:srgbClr val="ff0000"/>
                </a:solidFill>
                <a:latin typeface="Lato Regular"/>
                <a:ea typeface="Lato Regular"/>
              </a:rPr>
              <a:t> </a:t>
            </a: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charac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and</a:t>
            </a:r>
            <a:r>
              <a:rPr b="0" lang="en-AU" sz="1800" spc="-1" strike="noStrike">
                <a:solidFill>
                  <a:srgbClr val="ff0000"/>
                </a:solidFill>
                <a:latin typeface="Lato Regular"/>
                <a:ea typeface="Lato Regular"/>
              </a:rPr>
              <a:t> </a:t>
            </a: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their</a:t>
            </a:r>
            <a:r>
              <a:rPr b="0" lang="en-AU" sz="3200" spc="-1" strike="noStrike">
                <a:solidFill>
                  <a:srgbClr val="ff0000"/>
                </a:solidFill>
                <a:latin typeface="Lato Regular"/>
                <a:ea typeface="Lato Regular"/>
              </a:rPr>
              <a:t> </a:t>
            </a: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Who is involve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organised  by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2800440"/>
            <a:ext cx="822960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FOCUS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68360" y="5013360"/>
            <a:ext cx="3887640" cy="167868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The dramatist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fra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of  the situation and charac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in the human contex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4859280" y="5013360"/>
            <a:ext cx="3889440" cy="167868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the chos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distance</a:t>
            </a:r>
            <a:r>
              <a:rPr b="0" lang="en-AU" sz="3200" spc="-1" strike="noStrike">
                <a:solidFill>
                  <a:srgbClr val="ff0000"/>
                </a:solidFill>
                <a:latin typeface="Lato Regular"/>
                <a:ea typeface="Lato 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of the human situation from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viewer or particip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6"/>
          <p:cNvCxnSpPr/>
          <p:nvPr/>
        </p:nvCxnSpPr>
        <p:spPr>
          <a:xfrm>
            <a:off x="5724360" y="3212640"/>
            <a:ext cx="1369440" cy="1585080"/>
          </a:xfrm>
          <a:prstGeom prst="straightConnector1">
            <a:avLst/>
          </a:prstGeom>
          <a:ln w="9360">
            <a:solidFill>
              <a:srgbClr val="0f2746"/>
            </a:solidFill>
            <a:miter/>
            <a:tailEnd len="med" type="arrow" w="med"/>
          </a:ln>
        </p:spPr>
      </p:cxnSp>
      <p:cxnSp>
        <p:nvCxnSpPr>
          <p:cNvPr id="53" name="Straight Arrow Connector 8"/>
          <p:cNvCxnSpPr/>
          <p:nvPr/>
        </p:nvCxnSpPr>
        <p:spPr>
          <a:xfrm flipH="1">
            <a:off x="2195280" y="3213000"/>
            <a:ext cx="1152720" cy="1656720"/>
          </a:xfrm>
          <a:prstGeom prst="straightConnector1">
            <a:avLst/>
          </a:prstGeom>
          <a:ln w="9360">
            <a:solidFill>
              <a:srgbClr val="0f274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driven by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000" y="2781000"/>
            <a:ext cx="8289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TENSION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590920" y="5516640"/>
            <a:ext cx="3889080" cy="113004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tension of the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for the characters to achieve their ai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276720" y="3759120"/>
            <a:ext cx="2374920" cy="82548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Lato Regular"/>
                <a:ea typeface="Lato Regular"/>
              </a:rPr>
              <a:t>What’s at stak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33360" y="4438800"/>
            <a:ext cx="2519280" cy="113004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dilem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faced by the charac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3186000" y="4438800"/>
            <a:ext cx="2592360" cy="113004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conflict</a:t>
            </a:r>
            <a:r>
              <a:rPr b="0" lang="en-AU" sz="1800" spc="-1" strike="noStrike">
                <a:solidFill>
                  <a:srgbClr val="c5171a"/>
                </a:solidFill>
                <a:latin typeface="Lato Regular"/>
                <a:ea typeface="Lato Regular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between the charac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6111720" y="4438800"/>
            <a:ext cx="2698920" cy="113004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suspense</a:t>
            </a:r>
            <a:r>
              <a:rPr b="0" lang="en-AU" sz="1800" spc="-1" strike="noStrike">
                <a:solidFill>
                  <a:srgbClr val="c5171a"/>
                </a:solidFill>
                <a:latin typeface="Lato Regular"/>
                <a:ea typeface="Lato Regula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about what may hap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179280" y="5516640"/>
            <a:ext cx="2232000" cy="113004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mystery</a:t>
            </a: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of what is unreveal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6659640" y="5516640"/>
            <a:ext cx="2232000" cy="85572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surprise</a:t>
            </a:r>
            <a:r>
              <a:rPr b="0" lang="en-AU" sz="3200" spc="-1" strike="noStrike">
                <a:solidFill>
                  <a:srgbClr val="000000"/>
                </a:solidFill>
                <a:latin typeface="Lato Regular"/>
                <a:ea typeface="Lato 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for the charac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manifested in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6040" y="2781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SPACE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792000" y="4788000"/>
            <a:ext cx="3384720" cy="58140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embodied </a:t>
            </a: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4967280" y="4788000"/>
            <a:ext cx="3384720" cy="106884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location</a:t>
            </a:r>
            <a:r>
              <a:rPr b="0" lang="en-AU" sz="3200" spc="-1" strike="noStrike">
                <a:solidFill>
                  <a:srgbClr val="ff0000"/>
                </a:solidFill>
                <a:latin typeface="Lato Regular"/>
                <a:ea typeface="Lato Regular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and </a:t>
            </a: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2916360" y="5869080"/>
            <a:ext cx="3384360" cy="106884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light</a:t>
            </a:r>
            <a:r>
              <a:rPr b="0" lang="en-AU" sz="3200" spc="-1" strike="noStrike">
                <a:solidFill>
                  <a:srgbClr val="ff0000"/>
                </a:solidFill>
                <a:latin typeface="Lato Regular"/>
                <a:ea typeface="Lato Regular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and</a:t>
            </a:r>
            <a:r>
              <a:rPr b="0" lang="en-AU" sz="3200" spc="-1" strike="noStrike">
                <a:solidFill>
                  <a:srgbClr val="ff0000"/>
                </a:solidFill>
                <a:latin typeface="Lato Regular"/>
                <a:ea typeface="Lato Regular"/>
              </a:rPr>
              <a:t> </a:t>
            </a: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dark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manifested over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800440"/>
            <a:ext cx="822960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TIME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792000" y="5869080"/>
            <a:ext cx="3384720" cy="58140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plot</a:t>
            </a:r>
            <a:r>
              <a:rPr b="0" lang="en-AU" sz="3200" spc="-1" strike="noStrike">
                <a:solidFill>
                  <a:srgbClr val="000000"/>
                </a:solidFill>
                <a:latin typeface="Lato Regular"/>
                <a:ea typeface="Lato Regular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and</a:t>
            </a:r>
            <a:r>
              <a:rPr b="0" lang="en-AU" sz="3200" spc="-1" strike="noStrike">
                <a:solidFill>
                  <a:srgbClr val="000000"/>
                </a:solidFill>
                <a:latin typeface="Lato Regular"/>
                <a:ea typeface="Lato Regular"/>
              </a:rPr>
              <a:t> </a:t>
            </a: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967280" y="5869080"/>
            <a:ext cx="3384720" cy="58140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cause</a:t>
            </a: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 and </a:t>
            </a: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expressed in 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800080"/>
            <a:ext cx="8229600" cy="12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92000" y="4365720"/>
            <a:ext cx="3384720" cy="86364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voice</a:t>
            </a:r>
            <a:r>
              <a:rPr b="0" lang="en-AU" sz="3200" spc="-1" strike="noStrike">
                <a:solidFill>
                  <a:srgbClr val="ff0000"/>
                </a:solidFill>
                <a:latin typeface="Lato Regular"/>
                <a:ea typeface="Lato Regular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and </a:t>
            </a: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4967280" y="4365720"/>
            <a:ext cx="3384720" cy="85572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non-verbal </a:t>
            </a: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para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916360" y="5589720"/>
            <a:ext cx="3384360" cy="86364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sound</a:t>
            </a:r>
            <a:r>
              <a:rPr b="0" lang="en-AU" sz="3200" spc="-1" strike="noStrike">
                <a:solidFill>
                  <a:srgbClr val="ff0000"/>
                </a:solidFill>
                <a:latin typeface="Lato Regular"/>
                <a:ea typeface="Lato Regular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Lato Regular"/>
                <a:ea typeface="Lato Regular"/>
              </a:rPr>
              <a:t>and</a:t>
            </a:r>
            <a:r>
              <a:rPr b="0" lang="en-AU" sz="3200" spc="-1" strike="noStrike">
                <a:solidFill>
                  <a:srgbClr val="ff0000"/>
                </a:solidFill>
                <a:latin typeface="Lato Regular"/>
                <a:ea typeface="Lato Regular"/>
              </a:rPr>
              <a:t> </a:t>
            </a: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sil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embodied in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800080"/>
            <a:ext cx="8229600" cy="12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4967280" y="3789360"/>
            <a:ext cx="3384720" cy="115236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physical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 flipH="1">
            <a:off x="792000" y="3789360"/>
            <a:ext cx="3384720" cy="115092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ges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843280" y="5300640"/>
            <a:ext cx="3384360" cy="115272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movement and still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Combining to make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2852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Lato Regular"/>
              </a:rPr>
              <a:t>DRAMATIC MEANING</a:t>
            </a:r>
            <a:endParaRPr b="0" lang="en-US" sz="4400" spc="-1" strike="noStrike">
              <a:solidFill>
                <a:srgbClr val="000000"/>
              </a:solidFill>
              <a:latin typeface="Lato Regular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792000" y="4545000"/>
            <a:ext cx="3384720" cy="58140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symb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967280" y="4473720"/>
            <a:ext cx="3384720" cy="58140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at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792000" y="5842080"/>
            <a:ext cx="3384720" cy="58140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understa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4967280" y="5842080"/>
            <a:ext cx="3384720" cy="581400"/>
          </a:xfrm>
          <a:prstGeom prst="rect">
            <a:avLst/>
          </a:prstGeom>
          <a:solidFill>
            <a:srgbClr val="245f74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5171a"/>
                </a:solidFill>
                <a:latin typeface="Lato Regular"/>
                <a:ea typeface="Lato Regular"/>
              </a:rPr>
              <a:t>aesthetic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7:17:35Z</dcterms:created>
  <dc:creator>localadmin</dc:creator>
  <dc:description/>
  <dc:language>en-US</dc:language>
  <cp:lastModifiedBy>Jason</cp:lastModifiedBy>
  <dcterms:modified xsi:type="dcterms:W3CDTF">2013-01-29T00:12:23Z</dcterms:modified>
  <cp:revision>42</cp:revision>
  <dc:subject/>
  <dc:title>  THE ELEMENTS OF  DRAMATIC FORM</dc:title>
</cp:coreProperties>
</file>